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E54C-CF0B-4791-9660-2799F2289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35FA-DF52-480D-AB12-7DC92E38C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D64F-8679-478F-8186-B7865FC2D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six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069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7544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828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04520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0599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06356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08012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0448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14:17Z</dcterms:modified>
  <cp:revision>76</cp:revision>
  <dc:subject/>
  <dc:title>lesson three</dc:title>
</cp:coreProperties>
</file>